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projctor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E0F6-AE60-4E21-AC49-848E19637DAE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CAFA-4433-43FE-8BD8-152DA4E40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524E-F6C7-48A0-9362-41D999E9C3A1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9482-C201-45F8-9B28-56E8D26B608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F7FD-7AE1-4215-A8B9-8732B933FB79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7484-37E1-403A-B0EC-C7148D7CBDC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34E7-0530-42A3-8FFD-95D46325CB3A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779A-9316-4C40-87D4-284E42322B7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B26F-2A48-47F3-A9B3-D771CB5199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EA6A-C80D-41EF-AFC4-6C774DA3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0787-BB97-44F9-9455-2B26090B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EC2E-31C0-4C26-8BA6-AAC663EDD3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A006-1E14-4F4A-A0C8-96D65178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5BAD-1DB5-4152-99FE-CB9623CA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3DE9-9B71-442C-BF78-8558B2AC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736F-ADDC-4F1A-9A00-14B8B710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333A-F616-4806-84CF-43C5C56C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B378-8744-4FE2-84B8-7B4DE8B8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7A92-E9EC-4F67-80E6-2EDEC51C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CB80-57A1-47CD-A478-CEB70039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4CB0-E70D-4789-831B-47A85B453D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4.xml"/><Relationship Id="rId6" Type="http://schemas.openxmlformats.org/officeDocument/2006/relationships/slide" Target="slide104.xml"/><Relationship Id="rId7" Type="http://schemas.openxmlformats.org/officeDocument/2006/relationships/slide" Target="slide104.xml"/><Relationship Id="rId8" Type="http://schemas.openxmlformats.org/officeDocument/2006/relationships/slide" Target="slide105.xml"/><Relationship Id="rId9" Type="http://schemas.openxmlformats.org/officeDocument/2006/relationships/slide" Target="slide105.xml"/><Relationship Id="rId10" Type="http://schemas.openxmlformats.org/officeDocument/2006/relationships/slide" Target="slide105.xml"/><Relationship Id="rId11" Type="http://schemas.openxmlformats.org/officeDocument/2006/relationships/slide" Target="slide102.xml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39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5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2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E:/&#36164;&#26009;/&#35838;&#20214;/&#26032;&#24314;%20Microsoft%20PowerPoint%20&#28436;&#31034;&#25991;&#31295;.ppt" TargetMode="External"/><Relationship Id="rId3" Type="http://schemas.openxmlformats.org/officeDocument/2006/relationships/slide" Target="slide47.xml"/><Relationship Id="rId4" Type="http://schemas.openxmlformats.org/officeDocument/2006/relationships/hyperlink" Target="file:///E:/&#36164;&#26009;/&#35838;&#20214;/&#26032;&#24314;%20Microsoft%20PowerPoint%20&#28436;&#31034;&#25991;&#31295;.ppt" TargetMode="External"/><Relationship Id="rId5" Type="http://schemas.openxmlformats.org/officeDocument/2006/relationships/slide" Target="slide63.xml"/><Relationship Id="rId6" Type="http://schemas.openxmlformats.org/officeDocument/2006/relationships/hyperlink" Target="file:///E:/&#36164;&#26009;/&#35838;&#20214;/&#26032;&#24314;%20Microsoft%20PowerPoint%20&#28436;&#31034;&#25991;&#31295;.ppt" TargetMode="External"/><Relationship Id="rId7" Type="http://schemas.openxmlformats.org/officeDocument/2006/relationships/slide" Target="slide114.xml"/><Relationship Id="rId8" Type="http://schemas.openxmlformats.org/officeDocument/2006/relationships/hyperlink" Target="file:///E:/&#36164;&#26009;/&#35838;&#20214;/&#26032;&#24314;%20Microsoft%20PowerPoint%20&#28436;&#31034;&#25991;&#31295;.ppt" TargetMode="External"/><Relationship Id="rId9" Type="http://schemas.openxmlformats.org/officeDocument/2006/relationships/slide" Target="slide120.xml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4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" Target="slide95.xml"/><Relationship Id="rId6" Type="http://schemas.openxmlformats.org/officeDocument/2006/relationships/slide" Target="slide98.xml"/><Relationship Id="rId7" Type="http://schemas.openxmlformats.org/officeDocument/2006/relationships/slide" Target="slide110.xml"/><Relationship Id="rId8" Type="http://schemas.openxmlformats.org/officeDocument/2006/relationships/slide" Target="slide113.xml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5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9.xml"/><Relationship Id="rId9" Type="http://schemas.openxmlformats.org/officeDocument/2006/relationships/slide" Target="slide79.xml"/><Relationship Id="rId10" Type="http://schemas.openxmlformats.org/officeDocument/2006/relationships/slide" Target="slide80.xml"/><Relationship Id="rId11" Type="http://schemas.openxmlformats.org/officeDocument/2006/relationships/slide" Target="slide81.xml"/><Relationship Id="rId12" Type="http://schemas.openxmlformats.org/officeDocument/2006/relationships/slide" Target="slide81.xml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7.xml"/><Relationship Id="rId3" Type="http://schemas.openxmlformats.org/officeDocument/2006/relationships/slide" Target="slide88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slide" Target="slide91.xml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slide" Target="slide94.xml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6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9.xml"/><Relationship Id="rId3" Type="http://schemas.openxmlformats.org/officeDocument/2006/relationships/slide" Target="slide101.xml"/><Relationship Id="rId4" Type="http://schemas.openxmlformats.org/officeDocument/2006/relationships/slide" Target="slide106.xml"/><Relationship Id="rId5" Type="http://schemas.openxmlformats.org/officeDocument/2006/relationships/slide" Target="slide100.xml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第七节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腹部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6B00-17C9-4E36-89D5-27476E48D69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上角（胸骨下角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65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两侧肋弓的夹角，剑突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于判断体形及肝脾的测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4D8C-4054-4294-A38B-8920B3DCBA8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及伴随症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：脾脓肿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及摩擦感：脾周围炎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光滑：慢性疟疾、黑热病、慢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凹凸不平：脾肿瘤、结核、淋巴肉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3444-6C7D-4C77-978C-D9179D4D070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的测量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甲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甲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丁戊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表示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13DA-1F3F-4DFB-A09A-43908178906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示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数表示： 如脾大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测右缘到正中线的最大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+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负数表示：未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则测脾右缘到正中线的最短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-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031F-BDBF-4E44-AA54-2C7DB835009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缘至脾下缘间的距离（厘米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时适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只测此线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1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59E4-DC90-4919-8D66-18F5962858D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点到最远脾尖之间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6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7BCC-B38D-48C5-BA0B-A8B9ABBBBAF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丁戊线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右缘到正中线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1" name="Picture 6" descr="未命名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1018-5C2D-4412-A203-38D67BDE9A1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脾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427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轻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高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B7A8-9A7C-4854-AED8-1BD4FEA5672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轻度肿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深吸气时，脾在肋缘下不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急慢性肝炎、伤寒、感染性心内膜炎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48DA-840E-4A7F-8083-F8D5C6C261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至脐水平线以上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肝硬化、慢性淋巴性白血病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3E69-FEDB-4570-AB83-E8DAE980A43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高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脐水平线或前正中线，即巨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慢性淋巴性白血病、淋巴瘤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ACD8-2438-4B98-BF72-EAA58CF6A60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中线（腹白线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前正中线的延续，为腹部四区分法的垂直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1DC0-2B53-4B26-8F95-2A56BB6D885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肾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一般用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病变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205F-E115-4499-8F5F-6068DBAF2B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常见病变压痛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脊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与脊柱形成的夹角顶点，又称肋脊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腰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骨和腰肌外缘形成的夹角顶点，又称肋腰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上输尿管点：位于腹直肌外缘平脐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输尿管点：位于两髂前上棘连线与通过耻骨结节所做垂直                         线的交点上，相当于输尿管进入骨盆腔之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198E-A535-4AB5-BFB9-D5174AD12E5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脊点、肋腰点出现压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肾盂肾炎、肾脓肿、肾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上输尿管和中输尿管点出现压痛 ：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结石或化脓性炎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41A1-6E2E-451E-986A-1531F633D87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膀胱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方法：单手滑行触诊法：以左手自脐水平向耻骨方向触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内有尿液充盈时胀大，触之有囊性感，不易推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手压时有尿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：仅在耻骨联合之上触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度肿大：可在耻骨上方触及横置的椭圆形的膀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明显肿大：下腹部高度膨隆，膀胱呈球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胀大常见于尿路梗阻、昏迷、 腰麻后等原因所致的尿潴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E2CD-EDC0-4123-A439-22C9A90D28E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530520" y="304560"/>
            <a:ext cx="538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叩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68360" y="1699920"/>
            <a:ext cx="4818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叩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浊音上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E0F9-9AB3-4916-83D1-F28F2BDB68E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腹部叩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腹部叩诊音呈鼓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音响程度与胃肠道充气量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BDBE-FEEA-40B4-8120-49F06DB2BC5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移动性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叩诊时叩诊音变浊，且可随体位改变而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当腹腔内游离腹水量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以上时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移动性浊音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液波震颤常需有大量腹水时才可测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水量少时，取膝肘位叩诊，脐处叩诊呈浊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5003640" y="5589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误认为腹水的情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C8D7-2675-455B-9A88-9184450F51E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误认为腹水的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肠管内有大量液体潴留时，可因患者体位改变产生移动性浊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巨大的卵巢囊肿可误认为腹水。与腹水的鉴别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不同于腹水，仰卧时卵巢囊肿的浊音在腹中部，鼓音区在腹部两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的浊音无移动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887480" cy="237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4654440" y="607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腹水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26360" y="607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卵巢囊肿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C664-DC12-43C0-9BC7-87142E94FC9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肝浊音上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右锁骨中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肺气肿：可使肝下界下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严重腹水、肝大  ：使肝上界上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胃肠穿孔（气体逸出，进入腹腔）：肝浊音可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C4FC-12E0-496B-800C-33503B1B121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叩击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手平放在被检脏器的体表位置上，右手握拳叩击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手背。如患者感到疼痛，称叩击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各脏器无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2327-BFD2-4773-8A5A-1949975303B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9231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中心，位于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腰椎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四区分法、阑尾压痛点及腰椎穿刺的定位标志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1B78-1EDD-4332-9520-A467732410E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听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348000" y="2276280"/>
            <a:ext cx="3959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振水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38C9-6FEF-4A25-B509-C323D46927B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肠鸣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蠕动产生的声音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（脐部明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亢进：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，见于急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减弱或消失：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钟以上才听到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或听不到肠鸣音。见于肠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7ED0-9FCA-4487-A311-02D08FFF39D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振水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6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四指连续迅速地冲击患者上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仅在饭后多饮时出现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、胃扩张：空腹或饭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~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以上，胃部仍有振水音，则提示胃排空不良。见于幽门梗阻、胃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DE39-72CE-4825-BD3D-5042958A7FA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小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检查是体格检查的重要组成部分；腹部检查内容多、复杂；主要包括视、触、叩、听检查，期中触诊是腹部主要的检查方法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视诊：腹部外形、呼吸运动、腹壁静脉曲、胃肠型和蠕动波。在腹部视诊的检查过程中，要仔细对腹部表面的脏器轮廓、包块、蠕动波进行观察，结合其他检查方法对腹部检查做出正确的、有意义的评估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听诊：肠鸣音、振水音、血管杂音。为了避免触诊引起胃肠蠕动增加，使肠鸣音发生变化，腹部检查的顺序为视、听、触、叩，但记录时为了统一格式仍按视、触、叩、听的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叩诊：脏器叩诊、移动性浊音、叩痛。正确掌握叩诊某些腹腔脏器边界位置及有无叩痛，腹腔内积气积液情况，进一步验证视诊与触诊的结果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触诊：腹壁紧张度、压痛和反跳痛、脏器触诊。触诊是腹部检查中最重要的一步，必须掌握各种触诊的正确手法和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评估可以帮助我们了解腹部脏器的一些病变情况，掌握腹部评估中的一些异常和正常情况，可以帮助护士在护理患者时及时发现问题及时上报，对于腹部评估的方法必须反复练习才能掌握。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7C6E-20EF-4EF4-86D7-2B60C736A1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习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369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案例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37A3-0724-4120-AC9C-6FED90739DD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选择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胆囊炎时，下列哪项为阳性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Murphy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Courvoisi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Oliv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Grey-Turnet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Cullen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腹部触及包块时，包块与周围组织粘连，不易推动，压痛明显者，应考虑（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良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恶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囊肿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炎性肿块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游离脏器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女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小时前无诱因突然上腹刀割样疼痛，不敢直腰，腹肌紧张压痛、反跳痛明显，肝浊音界消失，应首先考虑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阑尾炎穿孔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宫外孕破裂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消化性溃疡急性穿孔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绞窄性肠梗阻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出血坏死性胰腺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男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主诉腹痛，腹部肠鸣音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分，且音调高呈金属音，最大可能为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肠炎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胃扩张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幽门梗阻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机械性肠梗阻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腹膜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0D32-BDE2-4E2D-95C0-347082E1E78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膜刺激征指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梗阻时，在腹壁上可看到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蠕动波和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5F79-64E7-41CF-A69A-D34147108F6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名词解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C06A-314B-479A-80CB-05836AD4C9D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简答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46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何为肠鸣音亢进？何为肠鸣音减弱或消失？其临床意义如何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触诊时如触及肿块，应注意描述肿块的哪些内容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巨大卵巢囊肿与腹水如何鉴别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7471-B371-4458-B8F7-A26263213EE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患者女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有乙肝病史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，近来感腹胀而就诊。查体：面部见蜘蛛痣，腹肌柔软，移动性浊音阳性。请回答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根据该病人病史及临床表现，你考虑此病人目前的医学诊断是什么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该病人治疗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个月复查，查体移动性浊音消失，提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后复查，查体出现液波震颤提示病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一患者起病急，上腹部痛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后转右下腹痛伴恶心呕吐，体温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7.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℃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。查体：位于脐与右髂前上棘中外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交界处出现明显固定的压痛和反跳痛，局部腹壁紧张。请问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你首先考虑该患者发生了什么情况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?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其诊断依据是什么？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AEC8-24BB-4D0B-82EE-6D3831B0EA2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髂前上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髂棘前方的突出点，为腹部九区分法、阑尾压痛点的定位标志及骨髓穿刺的部位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1D57-B298-4E63-B150-9C3D47C9C6F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直肌外缘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2" action="ppaction://hlinksldjump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532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抬头抬肩时可明显辨认，相当于锁骨中线的延续，右侧腹直肌外缘与肋弓下缘的交界处为胆囊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为手术切口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D964-CA39-42C5-B3AC-CFDBE9D86F4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股沟韧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腹部体表的下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寻找股动、静脉和腹股沟疝通过部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3019-E819-403E-B038-673C879785B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脊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背部两侧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骨与脊柱的交角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为检查肾叩痛的位置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448C-E6CF-4458-8578-E95D8695AE7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610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为腹中线最下部的骨性标志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E106-39D9-4B80-BBE0-E0187FAA240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6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8" descr="腹部前面体表标志图"/>
          <p:cNvPicPr/>
          <p:nvPr/>
        </p:nvPicPr>
        <p:blipFill>
          <a:blip r:embed="rId2"/>
          <a:stretch/>
        </p:blipFill>
        <p:spPr>
          <a:xfrm>
            <a:off x="1187280" y="1376280"/>
            <a:ext cx="75009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B764-7C9B-4D7C-A531-2D4758A6BDE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386E-CB74-414D-911C-7C43F5FF08F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864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分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6360" y="220464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四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九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黑体"/>
                <a:hlinkClick r:id="rId4" action="ppaction://hlinksldjump"/>
              </a:rPr>
              <a:t>七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22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22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79640" y="3068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3789360"/>
            <a:ext cx="679680" cy="665280"/>
          </a:xfrm>
          <a:prstGeom prst="hexagon">
            <a:avLst>
              <a:gd name="adj" fmla="val 2554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5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2658-792D-4A2A-9897-06A2F04954C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71720" y="393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CFAC-361D-4F7B-9C95-38B9F339105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熟记腹壁静脉曲张的概念、移动性浊音的概念、腹膜刺激征的概念、压痛与反跳痛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描述肠鸣音活跃、亢进、减弱和消失的判断标准、腹部触诊的注意事项、常见腹部压痛点及位置、脾大的分度、腹部的体表标志及分区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知道腹部各区与腹腔脏器的对应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归纳腹部视诊、触诊的异常体征及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本节所学知识能正确对腹部进行视、触、叩、听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234D-AA78-4909-8CA4-FDD14909F4B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1" name="Picture 8" descr="复件 腹部体表分区示意图图(七分法)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7936-AC6F-4108-8A6D-A202B014EF5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5" descr="复件 腹部体表分区示意图图(九区分法)"/>
          <p:cNvPicPr/>
          <p:nvPr/>
        </p:nvPicPr>
        <p:blipFill>
          <a:blip r:embed="rId2"/>
          <a:stretch/>
        </p:blipFill>
        <p:spPr>
          <a:xfrm>
            <a:off x="1692360" y="1268280"/>
            <a:ext cx="6913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C7A7-F115-4B28-AA4B-EB67B3D6A68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29" descr="腹部体表分区示意图图(四分法)"/>
          <p:cNvPicPr/>
          <p:nvPr/>
        </p:nvPicPr>
        <p:blipFill>
          <a:blip r:embed="rId2"/>
          <a:stretch/>
        </p:blipFill>
        <p:spPr>
          <a:xfrm>
            <a:off x="900000" y="1413000"/>
            <a:ext cx="7856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CC47-453D-4304-B1A3-CAD9BB969DE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过脐划一水平线与一垂直线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两线相交将腹部分为四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右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右下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左下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77080" y="263700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D2A5-4868-46E7-8072-063AAE9AB8E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2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                              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                           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                              右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                        结肠肝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升结肠及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9F45-3702-4C32-8BE2-2D0C34E86AA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                  部分小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横结肠和降结肠          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                  胰体及胰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      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脾曲及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3FD0-F446-4EA7-B4E1-A73E97DB07D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                                部分升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侧输尿管                       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2002-F54F-4C46-B5CB-3292D673A27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部分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                          充盈的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输尿管   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        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8432-1006-432C-A4CA-7C8ADAFA82C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两条水平线和两条垂直线将腹部分为井字形的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面的水平线为两侧肋弓下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面的水平线为两侧髂前上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通过左右髂前上棘至腹中线连线的中点划两条垂直线，将腹部分为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各区的主要脏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804000" y="2133720"/>
            <a:ext cx="1655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1BA2-FDA3-4FE9-93CD-125EFF6909C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各区的主要脏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40000" y="1196640"/>
            <a:ext cx="534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18280" y="1916280"/>
            <a:ext cx="54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5388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2" action="ppaction://hlinksldjump"/>
              </a:rPr>
              <a:t>左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57752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3" action="ppaction://hlinksldjump"/>
              </a:rPr>
              <a:t>左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330240" y="2205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4" action="ppaction://hlinksldjump"/>
              </a:rPr>
              <a:t>左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7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5" action="ppaction://hlinksldjump"/>
              </a:rPr>
              <a:t>右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5388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右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25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右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66104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964320" y="43657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中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26940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10" action="ppaction://hlinksldjump"/>
              </a:rPr>
              <a:t>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82E2-5764-47CF-A292-895ED1B73E9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患者男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前常因过劳、气候变化及饮食不洁而反复发作上腹部隐痛，疼痛多于餐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~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发生，伴反酸、嗳气，进餐后缓解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前大量饮酒后突感上腹部剧烈疼痛，恶心，呕吐血性胃内容物两次，约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0 ml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急诊入院。查体：患者烦躁不安，皮肤湿冷、意识模糊，呼吸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0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／分，尿少，血压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80/60mmH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脉搏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分，腹软，上腹偏右压痛，无反跳痛，无腹壁紧张，肠鸣音活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请思考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本患者可能发生什么情况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判断患者目前的出血量大约是多少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护士对该患者应该如何进行护理评估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F29A-B445-455F-8B88-A9B7A8E77A0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563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结肠脾曲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胰尾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BA05-C9B8-418D-82CD-739FE3C93FA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85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空肠或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下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809F-E524-4CB1-A54B-ED8662ED81B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56000" y="1413000"/>
            <a:ext cx="541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24A5-FE09-4283-9F03-B56874F7CDB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27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肝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52B2-4090-417B-ADD0-C0821B0D352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64000" y="1980720"/>
            <a:ext cx="505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升结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右肾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058E-8D24-4CAE-A838-76563398C78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76360" y="1196640"/>
            <a:ext cx="455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3F6D-61C6-4FC2-9F08-A1F4D1E8D06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196640"/>
            <a:ext cx="60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下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3126-9DFD-4B47-86C4-ECC5A372528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6000" y="1267920"/>
            <a:ext cx="505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网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与胰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D885-E572-47E5-B0B9-DB922EDCDE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中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十二指肠下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下垂的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系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主动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大网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86D7-F9E2-403A-BF1A-EF4F5BF022C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在九区法的基础上，将两侧腹部的三区改为通过脐的水平线分成上下两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左上腹部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下腹部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腹部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脐部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下腹部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右上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右下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5364000" y="3716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0DB1-EAB6-4340-AAF9-987C8243D0D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819440" y="1787400"/>
            <a:ext cx="688320" cy="594000"/>
            <a:chOff x="1819440" y="1787400"/>
            <a:chExt cx="688320" cy="594000"/>
          </a:xfrm>
        </p:grpSpPr>
        <p:sp>
          <p:nvSpPr>
            <p:cNvPr id="124" name="AutoShape 5"/>
            <p:cNvSpPr/>
            <p:nvPr/>
          </p:nvSpPr>
          <p:spPr>
            <a:xfrm>
              <a:off x="182484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181944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185940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99152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819440" y="25495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79640" y="2637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35280" y="4653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5600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87640" y="4076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835280" y="3429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79640" y="3500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4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835280" y="422100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979640" y="4292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741760" y="4168800"/>
            <a:ext cx="197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课后习题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91636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27280" y="2565360"/>
            <a:ext cx="41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腹部的体表标志与分区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543040" y="3376440"/>
            <a:ext cx="382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腹部评估方法及内容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00360" y="1787400"/>
            <a:ext cx="688320" cy="594000"/>
            <a:chOff x="1800360" y="1787400"/>
            <a:chExt cx="688320" cy="594000"/>
          </a:xfrm>
        </p:grpSpPr>
        <p:sp>
          <p:nvSpPr>
            <p:cNvPr id="146" name="AutoShape 5"/>
            <p:cNvSpPr/>
            <p:nvPr/>
          </p:nvSpPr>
          <p:spPr>
            <a:xfrm>
              <a:off x="180576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80036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84032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97244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53692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289728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13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2" name="WordArt 46"/>
          <p:cNvSpPr txBox="1"/>
          <p:nvPr/>
        </p:nvSpPr>
        <p:spPr>
          <a:xfrm>
            <a:off x="5076720" y="522936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后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681D-3B88-4989-82C4-F2CF34B8EAA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56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脾、胃、左肾、左肾上腺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尾、结肠脾曲、降结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6E7D-73C8-45C3-A4C9-26B9C99C2DC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9880" y="2650680"/>
            <a:ext cx="717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降结肠、乙状结肠、左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左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左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EB00-2E39-4C7C-A5A3-5C939B48EBA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胃、肝左叶、十二指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头和胰体、横结肠、腹主动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D58E-D49F-4324-888F-86C968D814C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十二指肠下部、空肠及回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垂的胃或横结肠、腹主动脉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肠系膜及其淋巴结、大网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36EE-2091-4B6F-967B-D1F040D560B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肠、乙状结肠及直肠、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胀大的膀胱和增大的子宫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EEF8-806F-44A8-B945-0391DB44355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5867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肝右叶、胆囊、右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肾上腺、结肠肝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4888-BADB-4F9B-BA70-58911C787C2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77560" y="2330280"/>
            <a:ext cx="65833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盲部、阑尾、右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右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右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42F5-0DCA-4D12-A258-66513A5646B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视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Verdana"/>
              </a:rPr>
              <a:t> 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Verdana"/>
              </a:rPr>
              <a:t>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3" name="Picture 4" descr="太阳花"/>
          <p:cNvPicPr/>
          <p:nvPr/>
        </p:nvPicPr>
        <p:blipFill>
          <a:blip r:embed="rId4"/>
          <a:stretch/>
        </p:blipFill>
        <p:spPr>
          <a:xfrm>
            <a:off x="5867280" y="2057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wbw02slg"/>
          <p:cNvPicPr/>
          <p:nvPr/>
        </p:nvPicPr>
        <p:blipFill>
          <a:blip r:embed="rId5"/>
          <a:stretch/>
        </p:blipFill>
        <p:spPr>
          <a:xfrm>
            <a:off x="2268360" y="4292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wbw02slg"/>
          <p:cNvPicPr/>
          <p:nvPr/>
        </p:nvPicPr>
        <p:blipFill>
          <a:blip r:embed="rId6"/>
          <a:stretch/>
        </p:blipFill>
        <p:spPr>
          <a:xfrm>
            <a:off x="2340000" y="2565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0D5F-5970-4CD5-A2AC-C2D08478E75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人腹部外形对称，一般描述为平坦、凹陷、膨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发育营养良好的青壮年前腹壁与肋缘至耻骨大致位于同一水平面，称为腹部平坦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小儿及肥胖者前腹壁可高于肋缘至耻骨的平面，脐部多呈凹陷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前腹壁稍低于肋缘至耻骨的平面称为腹部低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明显膨隆或凹陷具有病理意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2110-532D-4820-94B9-40021FC198D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部膨隆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凹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式呼吸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腹壁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胃肠蠕动波及肠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536A-4A37-46A0-9293-7B7F5CDD648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评估方法及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前，应嘱被评估者排空小便，被评估者取仰卧位，置一小枕于头下，两手自然放于躯干两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估者可与被评估者进行简单的交谈以帮助被评估者放松腹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方法仍然采用视诊、触诊、叩诊及听诊等基本方法。其中以触诊最为重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AutoShape 3">
            <a:hlinkClick r:id="rId2"/>
          </p:cNvPr>
          <p:cNvSpPr/>
          <p:nvPr/>
        </p:nvSpPr>
        <p:spPr>
          <a:xfrm>
            <a:off x="75564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3" action="ppaction://hlinksldjump"/>
              </a:rPr>
              <a:t>视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8" name="AutoShape 3">
            <a:hlinkClick r:id="rId4"/>
          </p:cNvPr>
          <p:cNvSpPr/>
          <p:nvPr/>
        </p:nvSpPr>
        <p:spPr>
          <a:xfrm>
            <a:off x="2700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5" action="ppaction://hlinksldjump"/>
              </a:rPr>
              <a:t>触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AutoShape 3">
            <a:hlinkClick r:id="rId6"/>
          </p:cNvPr>
          <p:cNvSpPr/>
          <p:nvPr/>
        </p:nvSpPr>
        <p:spPr>
          <a:xfrm>
            <a:off x="4716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7" action="ppaction://hlinksldjump"/>
              </a:rPr>
              <a:t>叩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0" name="AutoShape 3">
            <a:hlinkClick r:id="rId8"/>
          </p:cNvPr>
          <p:cNvSpPr/>
          <p:nvPr/>
        </p:nvSpPr>
        <p:spPr>
          <a:xfrm>
            <a:off x="673272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9" action="ppaction://hlinksldjump"/>
              </a:rPr>
              <a:t>听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1731-F35C-4CFD-901F-CD619CDA325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膨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42840" y="22096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肥胖、妊娠晚期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量腹水、巨大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84B1-5DEA-44A3-AC32-4D7D0AC4887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凹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49672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见于极度消瘦或严重脱水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重者呈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舟状腹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BDF7-0F9B-4463-BE39-C17263AB9ED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式呼吸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3691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腹膜炎，腹肌和膈肌痉挛、强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胃穿孔、急性腹膜炎、腹水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9166-B3EC-4151-A210-EE19084CA38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静脉曲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腹壁静脉一般看不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检查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1B69-7ABA-4F25-95F4-B66427C6E27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上的静脉自下向上经腹         壁静脉和腋静脉          上腔静脉。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下的腹壁静脉自上而下经大隐静脉           下腔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3341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851280" y="27082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029200" y="44956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411280" y="47242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0218-E645-4889-9179-64A7E3B4FF1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447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门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下腔静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腔静脉阻塞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359D-EA71-44EE-A1FC-AB0381CC75D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门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门脉高压形成侧支循环时，曲张的静脉以脐为中心向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四周伸展，血液的流向为脐静脉                   脐孔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扩张的腹部浅表静脉：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向上流入胸壁静脉、腋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 向下流入大隐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4500720" y="26370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103400" y="3860640"/>
            <a:ext cx="194148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00E8-097C-439D-898F-9B1342426F9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腔静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曲张的静脉大都分布在腹壁两侧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脐水平线以下的静脉血液的流向不是向下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上流入胸壁静脉和腋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0560-1472-482F-97B2-C0BACDE8996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腔静脉阻塞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腹部的静脉血流方向不是向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下流入腹壁静脉和大隐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700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9D20-A0E2-4598-AA44-DA89BD8F729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检查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评估者用右手示指和中指并拢紧压在一段无分支的静脉上，其中一只手指紧紧压住静脉并向外滑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，挤出静脉内血液；然后放松该手指，另一手指紧压不动，看静脉是否迅速充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再用同样的方法放松另一手指，根据血流的充盈情况可判断出血流方向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rcRect l="0" t="0" r="7538" b="0"/>
          <a:stretch/>
        </p:blipFill>
        <p:spPr>
          <a:xfrm>
            <a:off x="900000" y="4869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D:\z\2006-12-22\照片-诊断 006 副本.jpg"/>
          <p:cNvPicPr/>
          <p:nvPr/>
        </p:nvPicPr>
        <p:blipFill>
          <a:blip r:embed="rId3"/>
          <a:stretch/>
        </p:blipFill>
        <p:spPr>
          <a:xfrm>
            <a:off x="3419640" y="458136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441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E197-26E6-4F77-933C-715272504DA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部位于横膈与骨盆之间，前面及侧面为腹壁，后面为脊柱及腰肌，内含腹膜腔和腹腔脏器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腔脏器很多，互相交错重叠，正常脏器部分与肿块容易混淆，因此，仔细检查和辨认非常重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检查腹部仍用视诊、触诊、叩诊、听诊等基本检查法，但以触诊最为重要，需要反复实践才能掌握。并且还需借助实验室、影像学和内镜等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为了避免触诊引起胃肠蠕动增加，使肠鸣音发生变化，腹部检查的顺序为视、听、触、叩，但记录时为了统一格式仍按视、触、叩、听的顺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9467-7C6B-4A47-A892-6A67314FB61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蠕动波及肠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一般不易见到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极度消瘦者可见到胃肠蠕动波及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胃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11F5-F439-41FA-8FCB-4D04C20DA1D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腹壁上可以看到肠蠕动波及肠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0C5F-374F-4C73-81ED-B98543CF9A4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梗阻的上部蠕动增强，可出现蠕动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时上腹部可见到胃蠕动波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自左向右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EEC2-79D0-451F-9D70-E32A83E3CE3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08200" y="304560"/>
            <a:ext cx="6307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1" action="ppaction://hlinksldjump"/>
              </a:rPr>
              <a:t>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一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壁紧张度、压痛、反跳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二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肿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三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肝脏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四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胆囊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五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六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七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44146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77A5-33BA-4F1F-B5E8-4A33FF2C6D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、压痛、反跳痛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肌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压痛、反跳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1AB0-2862-4B4C-84E8-8AC4009A2E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肌紧张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内有炎症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可因反射性痉挛而使腹壁变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壁紧张度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壁紧张度减弱或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1EC4-9D39-405B-93BD-E2E70DFE75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腹壁紧张分两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局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弥漫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A64A-4C28-4BCC-A9C0-81B8FCAB623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局限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某一脏器的炎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急性阑尾炎           右下腹局限性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胆囊炎              右上腹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3635280" y="342900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419640" y="450864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C011-7B25-4BE8-981E-7FB4A1280A6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弥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急性弥漫性炎症所致：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弥漫性炎症所致：结腹出现揉面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8B12-6081-40EB-839E-6E26A29C7FD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板状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广泛性紧张硬如木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胃穿孔或其他原因引起的急性弥漫性腹膜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FAE4-FCC3-4BBD-8F43-89D5285D0B9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的体表标志与分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体表标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分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684360" y="2852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484360" y="263700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84360" y="393372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2728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27280" y="2708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49E9-689F-48C3-94E2-6B15C49864B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减弱或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多见于老年人，经产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消耗性疾病及大量放腹水后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BDAF-3E90-444D-840A-64BA820DD5C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、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压痛：由浅入深按压，发生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反跳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③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壁压痛与腹腔脏器病变引起的压痛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二者鉴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④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腔内重要脏器病变所致的压痛位置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0A97-167C-4344-B542-35B9B10C31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发现压痛后，手指在该处稍停片刻，然后将手迅速抬起，在这一瞬间患者感到腹痛加重，并有痛苦表情称之为反跳痛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炎症累及腹膜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292A-BB05-4883-BDF7-DA935950CE4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二者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将患者有压痛处的腹壁轻轻抓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壁的压痛，疼痛更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腔脏器的压痛，疼痛不加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9A9C-A14E-4910-9341-A98A1237901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腔内脏器病变所致的压痛位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⑴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急性胆囊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⑵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急性胰腺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⑶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消化性溃疡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⑷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急性阑尾炎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7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⑸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及子宫病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⑹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腹内脏器肿瘤早期、腹部肠管蛔虫病、胆管蛔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⑺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右肺下叶肺炎、右侧胸膜炎、心梗等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216A-A023-46AD-8B3E-550D2EDBD18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胆囊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645336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侧腹直肌外缘与肋弓下缘交界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明显压痛               胆囊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3780000" y="38606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84FB-95C1-4733-88BF-4E540A285F5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胰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697068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中腹部及偏左处有压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1C31-BE3A-407F-A141-13F2749927F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消化性溃疡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682632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在剑突下或稍偏左、右处有压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0DC7-9234-4A3F-B937-BCF98E68D0D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急性阑尾炎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表现上腹部压痛及疼痛数小时后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限于右下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髂前上棘与脐的连线的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交界处常有压痛       麦氏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McBurn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3780000" y="48690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3F58-024E-439F-AF0C-8D5F4859F0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膀胱及子宫病变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3D66-0A61-4BF9-B605-6FC26A4CDC2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肋弓下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腹上角（胸骨下角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腹中线（腹白线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脐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髂前上棘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腹直肌外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3" action="ppaction://hlinksldjump"/>
              </a:rPr>
              <a:t>腹股沟韧带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4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5" action="ppaction://hlinksldjump"/>
              </a:rPr>
              <a:t>肋脊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WordArt 8"/>
          <p:cNvSpPr txBox="1"/>
          <p:nvPr/>
        </p:nvSpPr>
        <p:spPr>
          <a:xfrm rot="21346200">
            <a:off x="5181480" y="342900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体表标志示意图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ACCC-9E27-494E-BCE2-2FDEF1AC413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内脏器肿瘤早期、_x000b_    腹部肠管蛔虫病、胆管蛔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4040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虽有腹痛，但无腹部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995D-DDE4-47E7-B515-BA9ABB90169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肺下叶肺炎、右侧胸膜炎、心梗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可引起腹部压痛（放射痛、牵涉痛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0EB9-9903-419F-9BC9-99FDBCA7E33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肿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时应注意肿快的位置、大小、形状、硬度、有无压痛与波动、能否移动、与周围器官和腹壁的关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炎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良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恶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8216-9728-4F5B-B975-908EEAFA276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炎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580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肿块与邻近组织粘连、压痛明显、不易推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40D6-A156-4639-AA73-2C54BA05D7B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良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4920" y="220968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边界清楚、表面光滑、质地不坚、压痛不著、活动度较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E068-952F-475E-9C16-853028865E3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恶性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包块巨大，边界模糊，表面不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地坚硬，移动度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D11E-0772-46D1-A483-AA90C86D68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，右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剑突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⑴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⑵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肝触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D14E-638F-467A-83D0-6FDC33421F6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钩指触诊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rcRect l="0" t="0" r="0" b="10696"/>
          <a:stretch/>
        </p:blipFill>
        <p:spPr>
          <a:xfrm>
            <a:off x="4859280" y="285264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3EF6-67E5-46B1-9A1B-D3D6671AD31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03280" y="1412640"/>
            <a:ext cx="404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大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质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表面光滑度及边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肝颈静脉回流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肝区腹膜摩擦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691D-7457-4F30-85DB-2C13DDEBC92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质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647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软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口唇）正常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韧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鼻尖）急性肝炎、脂肪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硬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前额）肝硬化、肝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385F-48B4-4387-B4DA-23CD86D5392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弓下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软骨构成，其下缘为体表腹部的上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用于腹部分区及肝脾的测量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7169-DB1D-4597-820C-1AB6F06743E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大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肋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，剑突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844D-6F44-4723-ABF8-6A5E793EDEF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面光滑度及边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⑴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光滑、边缘规则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常肝、急性肝炎、肝淤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⑵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不光滑，呈较均匀的小结节状，边缘不整且较薄者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肝硬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⑶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呈粗大不均匀的结节状，边缘厚薄不一致： 肝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A348-C984-40C0-84D4-CA72230D33B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无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炎、急性肝淤血、肝脓肿时有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DECE-4A44-4692-B3ED-023E0597D25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颈静脉回流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手按压肿大的肝时，颈静脉充盈较前更明显，停止按压时，颈静脉充盈复原，即为肝颈静脉回流征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右心衰竭、心包积液或心包缩窄的一个重要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6DF9-854F-4F8C-9689-40E91ACF18F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区腹膜摩擦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让患者用力做腹式呼吸，此时如触及断续而粗糙的震动，即为肝区腹膜摩擦感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肝周围炎时产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EC02-9DC0-47FA-895A-805820D0745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胆囊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胆囊不能触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4C3F-5297-47F5-95BE-98FEC255783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左手掌放于患者的右前胸下部，左拇指置于右肋下缘与腹直肌交界处，并按压腹部，嘱患者缓慢深呼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如在吸气过程中，患者因疼痛而突然终止吸气者称为莫菲征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）阳性。为胆囊炎症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rcRect l="0" t="11885" r="8913" b="0"/>
          <a:stretch/>
        </p:blipFill>
        <p:spPr>
          <a:xfrm>
            <a:off x="4788000" y="3959280"/>
            <a:ext cx="30970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EB7B-EB8D-4C06-B5F6-47B32B81E60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炎：肿大、囊性感，右上腹肌紧张压痛，莫菲征阳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胰头癌压迫胆总管：胆囊肿大，进行性黄疸，胆囊大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但无压痛            称为胆总管渐进阻塞征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Courvoisier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总管结石：黄疸明显，胆囊常不肿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因慢性炎症， 胆囊纤维化而皱缩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结石和胆囊癌时：胆囊肿大，有实体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124000" y="3141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9E18-2706-4FC8-9BED-98BA9EE984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978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脾不能触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脾触诊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脾大的测量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脾大的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脾大及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E0F4-B3E6-4A17-92F6-79CE7417FA5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通常脾触诊采用单手触诊法及双手触诊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明显肿大，位置较表浅时，用单手触诊稍用力即可触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轻度肿大，并且位置较深，则需要用双手触诊法进行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被评估者采取仰卧位，双腿稍屈曲，使腹壁松弛，评估者位于右侧，左手置于被评估者左季肋部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处的侧后方，将脾脏由后向前托起，右手平放腹部与右肋弓垂直，从髂前上棘连线水平开始随被评估者腹式呼吸自下而上进行触诊，直至触到脾下缘或右肋弓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17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02:43:28Z</dcterms:created>
  <dc:creator>李晓慧</dc:creator>
  <dc:description/>
  <dc:language>en-US</dc:language>
  <cp:lastModifiedBy>赵欣</cp:lastModifiedBy>
  <dcterms:modified xsi:type="dcterms:W3CDTF">2015-12-16T09:06:23Z</dcterms:modified>
  <cp:revision>98</cp:revision>
  <dc:subject/>
  <dc:title>腹部检查</dc:title>
</cp:coreProperties>
</file>